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40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9C1-3771-450E-91C8-DA489F4D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31F-8AF6-4F9F-8E06-D31CB0AB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898A-0DC0-4C24-AAD8-B3B8892A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F81-90CF-4537-A846-DB9B3D8A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6E15-8767-45E7-B6BB-79137915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A096-6119-4197-8F9D-2179AECA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EC8A-B2FD-481F-B252-FD894605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95F9-7CBC-493E-B880-C6757623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3355-DC5E-45B9-973F-41CA2036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1E29-0D9C-4952-8C08-B4B4E4A8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E694-764D-4538-9AAD-DB73666C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309-9CC6-4232-BE55-EEC2E849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1A17-CF9A-439D-9C86-4ABA3E53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4A1E-2E4A-48E5-868C-0EAEA8E1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967C-A8D4-4052-AD0F-1564722B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744D-0C15-4005-B872-D66E3C85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E925-E92C-4DD7-AB24-308F61B8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480F-D6C3-464B-9250-C2560B01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F6FBE-1B98-4AD5-84E4-FA08E6BD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3F8F-509B-4F26-A99C-BBDAB75F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70EC-511B-4435-96BB-5C1E3468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A7EC-6DFF-4783-94ED-239FE7FB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0E4-C69B-4ABF-B17B-F09D730C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293FF-7BC1-4AF7-A638-92FA3602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CE35B-05A8-41DD-B466-6D5B6A27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7E10-6CEB-48CE-B2CB-8531958B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5B966-1D4B-4B38-B84F-507DA6B7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AAD6-7A7A-41B1-BCD8-18EC4D30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1436-5261-4694-93E0-72F75680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25D4-2EC9-4212-B94A-BF25862C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9EB59-1F5C-4F87-973E-E3516226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AD95-1583-46CB-A5B7-F2604DFE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531DF-5F46-4137-A451-085F7211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2EE-93CB-485F-893E-D94ED9BE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86F3-4104-4486-B243-156A65A4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E71F-1504-49AA-9F13-E1317848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4A28-88E6-4DFA-8723-8A851F2C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364A-E853-4076-A75F-926DAA40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99B55-AF16-4943-9378-D36CD05E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96820-7108-4B3F-981B-F0253EAF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81B0-1F09-4B10-B6B6-AD71B88D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CA40-FC04-4751-8A9B-AFE87442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F9209-E3F0-43F9-886D-68631800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F100F-2606-401C-AFD7-07A8869E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F34-EDE2-488F-A613-287DF5FE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91D9A-2E35-4B04-957D-EB2E6BA9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DAF2-01FA-4F86-ADE0-0E0C732E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19A7E-2481-476A-9E44-89D335EA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1915D-7753-48C6-A202-55C251EA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49B67-149A-43FE-9BD5-CBFA3977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9CFEE-9C39-43CD-AAA5-71C6183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4393-A6E7-4347-99CE-5DD3721D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BA62-6A14-4DA8-A3C3-431EC33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507AA-6327-4F05-A69F-0E6CB2A0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82DF-B1E1-4B73-B751-24F77F9B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E2B-A21E-4862-A448-7507F23E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F2298-9992-422B-B10B-98942A30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A5A48-A399-4095-AECD-2DE67C91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8401-287C-4C6C-99BE-B3B55AFA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EC301-6D31-4631-8058-266B812D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07B32-4AE0-40B5-8757-7FCA15AE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35794-C575-4B30-A0A3-664DA8EF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A8529-B08C-438B-90F6-0629813D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CBAF-22F7-492D-A699-8ED7CAEF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96246-9DBC-4AC3-96EF-F4D9AA27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4FA4-670E-45EC-9264-EB15B829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5DD-831E-48E9-AB9C-6F4CAB04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7AFB9-4218-4466-A72C-784DB2EB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2E355-5A71-462F-964F-7E27797F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CA4D4-E115-471C-BE3F-FBE1185D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92C-EECF-446B-BA3C-079A8C3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F1B-B538-434A-84EB-656015B9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97BA-2719-4476-B5C1-06860A958F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5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F235-9ADE-4D22-AA94-C27A6761E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7F3E-FCB8-45A6-8A10-10B8E7FA4B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5F7C-EBCA-4B0A-8A99-0D8EB912F6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8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D2DE-D19D-4518-B8FF-FEE66D670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359-5ECB-4AE7-BDCF-E22E9CD5C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Моделирование.  Графические модел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211640" y="5660640"/>
            <a:ext cx="4788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: Благирев Алекс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к 9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ласс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Ш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№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Picture 6" descr="mod_1"/>
          <p:cNvPicPr/>
          <p:nvPr/>
        </p:nvPicPr>
        <p:blipFill>
          <a:blip r:embed="rId1"/>
          <a:stretch/>
        </p:blipFill>
        <p:spPr>
          <a:xfrm>
            <a:off x="2195640" y="2492280"/>
            <a:ext cx="4464000" cy="305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753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Географ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316" name="Picture 4" descr="Остров1"/>
          <p:cNvPicPr/>
          <p:nvPr/>
        </p:nvPicPr>
        <p:blipFill>
          <a:blip r:embed="rId1"/>
          <a:stretch/>
        </p:blipFill>
        <p:spPr>
          <a:xfrm>
            <a:off x="179280" y="1844640"/>
            <a:ext cx="4137120" cy="439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Остров2"/>
          <p:cNvPicPr/>
          <p:nvPr/>
        </p:nvPicPr>
        <p:blipFill>
          <a:blip r:embed="rId2"/>
          <a:stretch/>
        </p:blipFill>
        <p:spPr>
          <a:xfrm>
            <a:off x="4427640" y="333360"/>
            <a:ext cx="4535280" cy="34495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4427640" y="4076640"/>
            <a:ext cx="45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ристов и этнографов на остров Пасхи привлекают большие каменные идолы – моа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 изображает рельеф острова и взаиморасположение крупнейших местных вулка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Анатом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320" name="Picture 4" descr="Глаз1"/>
          <p:cNvPicPr/>
          <p:nvPr/>
        </p:nvPicPr>
        <p:blipFill>
          <a:blip r:embed="rId1"/>
          <a:stretch/>
        </p:blipFill>
        <p:spPr>
          <a:xfrm>
            <a:off x="468360" y="1628640"/>
            <a:ext cx="5327640" cy="2022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Глаз2"/>
          <p:cNvPicPr/>
          <p:nvPr/>
        </p:nvPicPr>
        <p:blipFill>
          <a:blip r:embed="rId2"/>
          <a:stretch/>
        </p:blipFill>
        <p:spPr>
          <a:xfrm>
            <a:off x="5219640" y="3767040"/>
            <a:ext cx="3487680" cy="29973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6"/>
          <p:cNvSpPr/>
          <p:nvPr/>
        </p:nvSpPr>
        <p:spPr>
          <a:xfrm>
            <a:off x="250920" y="37162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льшую часть информации об окружающем мире человек получает через гла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050920" y="595008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ожное устройство гла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Биолог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325" name="Picture 4" descr="ДНК"/>
          <p:cNvPicPr/>
          <p:nvPr/>
        </p:nvPicPr>
        <p:blipFill>
          <a:blip r:embed="rId1"/>
          <a:stretch/>
        </p:blipFill>
        <p:spPr>
          <a:xfrm>
            <a:off x="324000" y="1916280"/>
            <a:ext cx="5543280" cy="234936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5"/>
          <p:cNvSpPr/>
          <p:nvPr/>
        </p:nvSpPr>
        <p:spPr>
          <a:xfrm>
            <a:off x="324000" y="4581360"/>
            <a:ext cx="55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дель молекулы ДНК. ДНК хранит всю жизненно важную информацию. Именно она шаг за шагом повторяется в каждой новой клетке. Маленькая, дважды скрученная спиралью, чтобы занимать ещё меньше места, каждым своим микроскопическим участком (геном) она задаёт программу развития всего организма в це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6" descr="Клетка"/>
          <p:cNvPicPr/>
          <p:nvPr/>
        </p:nvPicPr>
        <p:blipFill>
          <a:blip r:embed="rId2"/>
          <a:stretch/>
        </p:blipFill>
        <p:spPr>
          <a:xfrm>
            <a:off x="6156360" y="1125360"/>
            <a:ext cx="2865240" cy="437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Графические модели в жизн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5589720"/>
            <a:ext cx="91440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еконструкция по костным останка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0" name="Picture 4" descr="Восстановление1"/>
          <p:cNvPicPr/>
          <p:nvPr/>
        </p:nvPicPr>
        <p:blipFill>
          <a:blip r:embed="rId2"/>
          <a:stretch/>
        </p:blipFill>
        <p:spPr>
          <a:xfrm>
            <a:off x="250920" y="1989000"/>
            <a:ext cx="4033800" cy="2421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Восстановление2"/>
          <p:cNvPicPr/>
          <p:nvPr/>
        </p:nvPicPr>
        <p:blipFill>
          <a:blip r:embed="rId3"/>
          <a:stretch/>
        </p:blipFill>
        <p:spPr>
          <a:xfrm>
            <a:off x="4643280" y="1268280"/>
            <a:ext cx="4105440" cy="3537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6"/>
          <p:cNvSpPr/>
          <p:nvPr/>
        </p:nvSpPr>
        <p:spPr>
          <a:xfrm>
            <a:off x="324000" y="4653000"/>
            <a:ext cx="410508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хтиостега – первое земновод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4500720" y="486900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андерталец (черты, свойственные современному человеку, – вверху; ряд обезьяньих черт – внизу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Математическая модель 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на завтра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35" name="Picture 7" descr="Кардиоида1"/>
          <p:cNvPicPr/>
          <p:nvPr/>
        </p:nvPicPr>
        <p:blipFill>
          <a:blip r:embed="rId2"/>
          <a:stretch/>
        </p:blipFill>
        <p:spPr>
          <a:xfrm>
            <a:off x="826920" y="1628640"/>
            <a:ext cx="2889360" cy="31086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Кардиоида2"/>
          <p:cNvPicPr/>
          <p:nvPr/>
        </p:nvPicPr>
        <p:blipFill>
          <a:blip r:embed="rId3"/>
          <a:stretch/>
        </p:blipFill>
        <p:spPr>
          <a:xfrm>
            <a:off x="4932360" y="1700280"/>
            <a:ext cx="2781360" cy="28796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0"/>
          <p:cNvSpPr/>
          <p:nvPr/>
        </p:nvSpPr>
        <p:spPr>
          <a:xfrm>
            <a:off x="755640" y="530064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диоида от греческих сло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ardia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“сердце” 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ido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“вид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ярное уравнение: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равнение в декартовых координатах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12" descr="Формула1"/>
          <p:cNvPicPr/>
          <p:nvPr/>
        </p:nvPicPr>
        <p:blipFill>
          <a:blip r:embed="rId4"/>
          <a:stretch/>
        </p:blipFill>
        <p:spPr>
          <a:xfrm>
            <a:off x="5580000" y="5661000"/>
            <a:ext cx="1650960" cy="284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Формула2"/>
          <p:cNvPicPr/>
          <p:nvPr/>
        </p:nvPicPr>
        <p:blipFill>
          <a:blip r:embed="rId5"/>
          <a:stretch/>
        </p:blipFill>
        <p:spPr>
          <a:xfrm>
            <a:off x="3276720" y="6237360"/>
            <a:ext cx="2703240" cy="349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37414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Архитектур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41" name="Picture 7" descr="Архитектура1"/>
          <p:cNvPicPr/>
          <p:nvPr/>
        </p:nvPicPr>
        <p:blipFill>
          <a:blip r:embed="rId2"/>
          <a:stretch/>
        </p:blipFill>
        <p:spPr>
          <a:xfrm>
            <a:off x="270000" y="1413000"/>
            <a:ext cx="3514680" cy="5216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Архитектура2"/>
          <p:cNvPicPr/>
          <p:nvPr/>
        </p:nvPicPr>
        <p:blipFill>
          <a:blip r:embed="rId3"/>
          <a:stretch/>
        </p:blipFill>
        <p:spPr>
          <a:xfrm>
            <a:off x="5435640" y="189000"/>
            <a:ext cx="2449440" cy="39891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9"/>
          <p:cNvSpPr/>
          <p:nvPr/>
        </p:nvSpPr>
        <p:spPr>
          <a:xfrm>
            <a:off x="3995640" y="4221000"/>
            <a:ext cx="51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рам Воскресения Христова – памятник русской архитектуры конц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ка. Он построен на месте, где 1 марта 1881 года народовольцем И.И. Гриневицким был смертельно ранен Александр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октябре 1883 года состоялась торжественная закладка храма. Строительство велось 24 года и 19 августа 1907 года собор Воскресения был освящё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Строительство"/>
          <p:cNvPicPr/>
          <p:nvPr/>
        </p:nvPicPr>
        <p:blipFill>
          <a:blip r:embed="rId2"/>
          <a:stretch/>
        </p:blipFill>
        <p:spPr>
          <a:xfrm>
            <a:off x="0" y="1197000"/>
            <a:ext cx="5651640" cy="53262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троительств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5796000" y="2924280"/>
            <a:ext cx="324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етевой граф строительства для жилого дома. Вершины этого графа обозначают отдельные виды работ на стройке, числа – продолжительность в днях соответствующей раб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Природные явл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48" name="Picture 4" descr="Вулкан2"/>
          <p:cNvPicPr/>
          <p:nvPr/>
        </p:nvPicPr>
        <p:blipFill>
          <a:blip r:embed="rId2"/>
          <a:stretch/>
        </p:blipFill>
        <p:spPr>
          <a:xfrm>
            <a:off x="4268880" y="1916280"/>
            <a:ext cx="4875120" cy="5132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Вулкан1"/>
          <p:cNvPicPr/>
          <p:nvPr/>
        </p:nvPicPr>
        <p:blipFill>
          <a:blip r:embed="rId3"/>
          <a:stretch/>
        </p:blipFill>
        <p:spPr>
          <a:xfrm>
            <a:off x="250920" y="2565360"/>
            <a:ext cx="4321080" cy="32688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324000" y="126828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тография извержения подводного вулкана Капелиньи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роение и образование подковообразной структуры вокруг кратера, конус которого вследствие роста поднимается над во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плакат7"/>
          <p:cNvPicPr/>
          <p:nvPr/>
        </p:nvPicPr>
        <p:blipFill>
          <a:blip r:embed="rId2"/>
          <a:stretch/>
        </p:blipFill>
        <p:spPr>
          <a:xfrm>
            <a:off x="900000" y="1568520"/>
            <a:ext cx="7344000" cy="52894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Поведение человека в чрезвычайных ситуация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Этапы создания графической модел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ределяется объект моделир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бирается программная среда моделир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рабатывается компьютерная мод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одится анализ результатов моделир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ль - это некий новый объект, который отражает существенные особенности изучаемого объекта, явления или процес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15" descr="1218102863"/>
          <p:cNvPicPr/>
          <p:nvPr/>
        </p:nvPicPr>
        <p:blipFill>
          <a:blip r:embed="rId1"/>
          <a:stretch/>
        </p:blipFill>
        <p:spPr>
          <a:xfrm>
            <a:off x="971640" y="1773360"/>
            <a:ext cx="3168720" cy="2735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6"/>
          <p:cNvSpPr/>
          <p:nvPr/>
        </p:nvSpPr>
        <p:spPr>
          <a:xfrm>
            <a:off x="179280" y="4653000"/>
            <a:ext cx="849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7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лирование - это метод познания, состоящий в создании и исследовании мод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1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7" descr="1"/>
          <p:cNvPicPr/>
          <p:nvPr/>
        </p:nvPicPr>
        <p:blipFill>
          <a:blip r:embed="rId2"/>
          <a:stretch/>
        </p:blipFill>
        <p:spPr>
          <a:xfrm>
            <a:off x="4500720" y="177336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. Семакин и др., Информатика. Базовый курс. 8-9 кл., Бином, М. – 200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нциклопедический словарь юного математика, Педагогика, М. – 1985г., 352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В. Пёрышкин, Е.М. Гутник, Физика. Учебник 9 кл., Дрофа, М. – 2007г., 256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А. Данилов и др., История России, Учебник 9 кл., Просвещение, М. – 2007г., 384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 В. Загладин, Всеобщая история. Учебник 9 кл., Русское слово, М. – 2007г., 334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ая энциклопедия природы. Горы и вулканы, Т-13; Зарождение жизни на Земле, Т-14; Чудеса природы, Т-16, Мир книги, М. – 2003г., 192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Д. Ботвинников, Черчение. Учебник, АСТ.Астрель, М. – 2007г., 224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-П Трашье, Б. Даверсен, Популярная астрономия “Звёздными тропами”, Мир книги, М – 2004г., 112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ffff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П. Бутиков, Музей-памятник “Спас на крови”, С-Пб – 1996г., 96 ст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4"/>
          <p:cNvSpPr txBox="1"/>
          <p:nvPr/>
        </p:nvSpPr>
        <p:spPr>
          <a:xfrm>
            <a:off x="1692360" y="2421000"/>
            <a:ext cx="575928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4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рафическая информационная модель - это наглядный способ представления объектов и процессов в виде графических изображений.</a:t>
            </a:r>
            <a:endParaRPr b="0" lang="en-US" sz="2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56000" y="2565000"/>
            <a:ext cx="2459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ртеж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х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раф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р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иаграм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а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раф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6" descr="Безымянныйкуук"/>
          <p:cNvPicPr/>
          <p:nvPr/>
        </p:nvPicPr>
        <p:blipFill>
          <a:blip r:embed="rId1"/>
          <a:stretch/>
        </p:blipFill>
        <p:spPr>
          <a:xfrm>
            <a:off x="539640" y="1989000"/>
            <a:ext cx="1828800" cy="1944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46392113242441"/>
          <p:cNvPicPr/>
          <p:nvPr/>
        </p:nvPicPr>
        <p:blipFill>
          <a:blip r:embed="rId2"/>
          <a:stretch/>
        </p:blipFill>
        <p:spPr>
          <a:xfrm>
            <a:off x="2556000" y="1989000"/>
            <a:ext cx="3168360" cy="1944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5"/>
          <p:cNvPicPr/>
          <p:nvPr/>
        </p:nvPicPr>
        <p:blipFill>
          <a:blip r:embed="rId3"/>
          <a:stretch/>
        </p:blipFill>
        <p:spPr>
          <a:xfrm>
            <a:off x="468360" y="4221000"/>
            <a:ext cx="1896840" cy="2232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3"/>
          <p:cNvPicPr/>
          <p:nvPr/>
        </p:nvPicPr>
        <p:blipFill>
          <a:blip r:embed="rId4"/>
          <a:stretch/>
        </p:blipFill>
        <p:spPr>
          <a:xfrm>
            <a:off x="2627280" y="4149720"/>
            <a:ext cx="3097080" cy="2308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92360" y="5733720"/>
            <a:ext cx="51120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Тригонометр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82" name="Picture 7" descr="Тригонометрия1"/>
          <p:cNvPicPr/>
          <p:nvPr/>
        </p:nvPicPr>
        <p:blipFill>
          <a:blip r:embed="rId1"/>
          <a:stretch/>
        </p:blipFill>
        <p:spPr>
          <a:xfrm>
            <a:off x="324000" y="3789360"/>
            <a:ext cx="2730240" cy="2828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Тригонометрия2"/>
          <p:cNvPicPr/>
          <p:nvPr/>
        </p:nvPicPr>
        <p:blipFill>
          <a:blip r:embed="rId2"/>
          <a:stretch/>
        </p:blipFill>
        <p:spPr>
          <a:xfrm>
            <a:off x="6372360" y="1413000"/>
            <a:ext cx="2450880" cy="2246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Тригонометрия3"/>
          <p:cNvPicPr/>
          <p:nvPr/>
        </p:nvPicPr>
        <p:blipFill>
          <a:blip r:embed="rId3"/>
          <a:stretch/>
        </p:blipFill>
        <p:spPr>
          <a:xfrm>
            <a:off x="324000" y="1413000"/>
            <a:ext cx="5760720" cy="22399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0"/>
          <p:cNvSpPr/>
          <p:nvPr/>
        </p:nvSpPr>
        <p:spPr>
          <a:xfrm>
            <a:off x="3132000" y="3716280"/>
            <a:ext cx="55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игонометрические функции возникли в Древней Греции в связи с исследованиями в астрономии и геометрии. Отношения  сторон в прямоугольном треугольнике встречаются уже 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. до н. э. в работах Евклида, Архимеда и др. Современную форму теории тригонометрических функций придал Л. Эйле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 Black"/>
              </a:rPr>
              <a:t>Графические модели в учебных предмет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Информатик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288" name="Picture 4" descr="Мат"/>
          <p:cNvPicPr/>
          <p:nvPr/>
        </p:nvPicPr>
        <p:blipFill>
          <a:blip r:embed="rId1"/>
          <a:stretch/>
        </p:blipFill>
        <p:spPr>
          <a:xfrm>
            <a:off x="108000" y="1268280"/>
            <a:ext cx="4680000" cy="37753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250920" y="522936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тография материнской платы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36" descr="Схема мат"/>
          <p:cNvPicPr/>
          <p:nvPr/>
        </p:nvPicPr>
        <p:blipFill>
          <a:blip r:embed="rId2"/>
          <a:stretch/>
        </p:blipFill>
        <p:spPr>
          <a:xfrm>
            <a:off x="4859280" y="3068640"/>
            <a:ext cx="4105440" cy="27716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7"/>
          <p:cNvSpPr/>
          <p:nvPr/>
        </p:nvSpPr>
        <p:spPr>
          <a:xfrm>
            <a:off x="4788000" y="206064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руктурная схема материнской платы компью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9" descr="Физика3"/>
          <p:cNvPicPr/>
          <p:nvPr/>
        </p:nvPicPr>
        <p:blipFill>
          <a:blip r:embed="rId1"/>
          <a:stretch/>
        </p:blipFill>
        <p:spPr>
          <a:xfrm>
            <a:off x="5796000" y="907920"/>
            <a:ext cx="2944800" cy="4754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Физика1"/>
          <p:cNvPicPr/>
          <p:nvPr/>
        </p:nvPicPr>
        <p:blipFill>
          <a:blip r:embed="rId2"/>
          <a:stretch/>
        </p:blipFill>
        <p:spPr>
          <a:xfrm>
            <a:off x="684360" y="189000"/>
            <a:ext cx="4032000" cy="2709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Физика2"/>
          <p:cNvPicPr/>
          <p:nvPr/>
        </p:nvPicPr>
        <p:blipFill>
          <a:blip r:embed="rId3"/>
          <a:stretch/>
        </p:blipFill>
        <p:spPr>
          <a:xfrm>
            <a:off x="539640" y="4581360"/>
            <a:ext cx="1266840" cy="2171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2"/>
          <p:cNvSpPr/>
          <p:nvPr/>
        </p:nvSpPr>
        <p:spPr>
          <a:xfrm>
            <a:off x="0" y="2852640"/>
            <a:ext cx="543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новные части реактора на медленных нейтронах. В активной зоне находится ядерное топливо в виде урановых стержней и замедлитель нейтронов – в данном случае вода. Показаны устройства, в которых энергия пара преобразуется в электроэнерг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5508720" y="57340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кета в разрезе. Основную массу ракеты составляет топливо с окисли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1979640" y="530064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ле постоянного полосового магни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6227640" y="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7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Астрономия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300" name="Picture 6" descr="Затмение1"/>
          <p:cNvPicPr/>
          <p:nvPr/>
        </p:nvPicPr>
        <p:blipFill>
          <a:blip r:embed="rId1"/>
          <a:stretch/>
        </p:blipFill>
        <p:spPr>
          <a:xfrm>
            <a:off x="324000" y="1052640"/>
            <a:ext cx="2808000" cy="1657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Затмение2"/>
          <p:cNvPicPr/>
          <p:nvPr/>
        </p:nvPicPr>
        <p:blipFill>
          <a:blip r:embed="rId2"/>
          <a:stretch/>
        </p:blipFill>
        <p:spPr>
          <a:xfrm>
            <a:off x="3924360" y="189000"/>
            <a:ext cx="4968720" cy="159228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8"/>
          <p:cNvSpPr/>
          <p:nvPr/>
        </p:nvSpPr>
        <p:spPr>
          <a:xfrm>
            <a:off x="3276720" y="177336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лное затмение Солнца 11 июля 1991 года. Видна солнечная корона – светлое пятно вокруг чёрного диска Лу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9" descr="Звёзды2"/>
          <p:cNvPicPr/>
          <p:nvPr/>
        </p:nvPicPr>
        <p:blipFill>
          <a:blip r:embed="rId3"/>
          <a:stretch/>
        </p:blipFill>
        <p:spPr>
          <a:xfrm>
            <a:off x="179280" y="2852640"/>
            <a:ext cx="4753080" cy="2490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Звёзды1"/>
          <p:cNvPicPr/>
          <p:nvPr/>
        </p:nvPicPr>
        <p:blipFill>
          <a:blip r:embed="rId4"/>
          <a:stretch/>
        </p:blipFill>
        <p:spPr>
          <a:xfrm>
            <a:off x="5076720" y="2492280"/>
            <a:ext cx="3915000" cy="28479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2"/>
          <p:cNvSpPr/>
          <p:nvPr/>
        </p:nvSpPr>
        <p:spPr>
          <a:xfrm>
            <a:off x="395280" y="55897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уманность М8 Лагуна в созвездии Стрель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то огромная диффузная туманность, видимая невооружённым глазом, свет которой шёл до нас 5000 лет. Её диаметр составляет 80 световых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Черчение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307" name="Picture 6" descr="Чертёж2"/>
          <p:cNvPicPr/>
          <p:nvPr/>
        </p:nvPicPr>
        <p:blipFill>
          <a:blip r:embed="rId1"/>
          <a:stretch/>
        </p:blipFill>
        <p:spPr>
          <a:xfrm>
            <a:off x="4788000" y="1341360"/>
            <a:ext cx="3957480" cy="3957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Чертёж1"/>
          <p:cNvPicPr/>
          <p:nvPr/>
        </p:nvPicPr>
        <p:blipFill>
          <a:blip r:embed="rId2"/>
          <a:stretch/>
        </p:blipFill>
        <p:spPr>
          <a:xfrm>
            <a:off x="611280" y="1052640"/>
            <a:ext cx="3616200" cy="42494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9"/>
          <p:cNvSpPr/>
          <p:nvPr/>
        </p:nvSpPr>
        <p:spPr>
          <a:xfrm>
            <a:off x="1258920" y="537372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ивошип. Используется в двигателях внутреннего сгорания. Передаёт движение от шатуна к валу, превращая поступательное движение поршня во вращательное движение вала. Сборочный чертёж кривошип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Истор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5516280"/>
            <a:ext cx="543564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1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хема распада Югославии. В 1991г. из Югославии вышли Хорватия и Слов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92г. независимость провозглас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сния и Герцегов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580000" y="544500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59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рта. Второй период Великой Отечественной вой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42 – 1945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История1"/>
          <p:cNvPicPr/>
          <p:nvPr/>
        </p:nvPicPr>
        <p:blipFill>
          <a:blip r:embed="rId1"/>
          <a:stretch/>
        </p:blipFill>
        <p:spPr>
          <a:xfrm>
            <a:off x="108000" y="1233360"/>
            <a:ext cx="5327640" cy="407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Карта1"/>
          <p:cNvPicPr/>
          <p:nvPr/>
        </p:nvPicPr>
        <p:blipFill>
          <a:blip r:embed="rId2"/>
          <a:stretch/>
        </p:blipFill>
        <p:spPr>
          <a:xfrm>
            <a:off x="5580000" y="1197000"/>
            <a:ext cx="3468600" cy="410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7:54:38Z</dcterms:created>
  <dc:creator>USER</dc:creator>
  <dc:description/>
  <dc:language>en-US</dc:language>
  <cp:lastModifiedBy>Vlad</cp:lastModifiedBy>
  <dcterms:modified xsi:type="dcterms:W3CDTF">2010-06-16T20:35:07Z</dcterms:modified>
  <cp:revision>35</cp:revision>
  <dc:subject/>
  <dc:title>Моделирование  Графические модели</dc:title>
</cp:coreProperties>
</file>